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C1B08-731F-438B-AAF6-4C5320DB6F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3FC92-3954-436F-A08F-C2224912E1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4A9-79EA-4EDA-88AF-86F53826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AB8-4FB2-41D7-9D82-6FE5091F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6C7-54FF-4684-AC37-93CA5238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164-1E56-4C89-BB2B-55CB29B2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DC0-575A-4D5F-B80B-CB2DD1A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EE9-25A2-400E-BF43-2C138140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493-3D0D-4C7F-8FA6-E67BFFD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014-7E20-425D-8EFB-3F5305F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5A1-88D3-4303-8382-92ACA14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4B5-20E2-458D-8D5A-2438837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221-FF9A-441D-A9CD-FF10BC2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08D-C02B-4CD2-889F-40EB651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88141-45CA-4D79-B278-636BAE2E02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1779480" y="2305080"/>
            <a:ext cx="5658120" cy="3102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986120" y="905040"/>
            <a:ext cx="5519160" cy="1180800"/>
            <a:chOff x="1986120" y="905040"/>
            <a:chExt cx="5519160" cy="1180800"/>
          </a:xfrm>
        </p:grpSpPr>
        <p:sp>
          <p:nvSpPr>
            <p:cNvPr id="65" name="Text Box 2"/>
            <p:cNvSpPr/>
            <p:nvPr/>
          </p:nvSpPr>
          <p:spPr>
            <a:xfrm>
              <a:off x="3244680" y="1011240"/>
              <a:ext cx="4260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对子歌二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986120" y="905040"/>
              <a:ext cx="1181160" cy="1180800"/>
              <a:chOff x="1986120" y="905040"/>
              <a:chExt cx="118116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98612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2093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5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625320" y="205740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描写了大自然中的哪些景物？列举几个。它们表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987480" y="3257640"/>
            <a:ext cx="76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描写了大自然中的风霜雨雪、春夏秋冬、莺歌雁鸣、绿竹苍松。表现了大自然的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7"/>
          <p:cNvSpPr/>
          <p:nvPr/>
        </p:nvSpPr>
        <p:spPr>
          <a:xfrm>
            <a:off x="2492280" y="2986200"/>
            <a:ext cx="29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风霜雨雪 春夏秋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莺歌雁鸣 绿竹苍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秦岭云横 巫山雨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1102680" y="2113200"/>
            <a:ext cx="109440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对子歌二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6164280" y="2838600"/>
            <a:ext cx="14000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对仗工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意境优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右大括号 10"/>
          <p:cNvSpPr/>
          <p:nvPr/>
        </p:nvSpPr>
        <p:spPr>
          <a:xfrm rot="10800000">
            <a:off x="2065320" y="2905200"/>
            <a:ext cx="426960" cy="1914480"/>
          </a:xfrm>
          <a:custGeom>
            <a:avLst/>
            <a:gdLst>
              <a:gd name="textAreaLeft" fmla="*/ 0 w 426960"/>
              <a:gd name="textAreaRight" fmla="*/ 154080 w 426960"/>
              <a:gd name="textAreaTop" fmla="*/ 10800 h 1914480"/>
              <a:gd name="textAreaBottom" fmla="*/ 1903680 h 19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6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右大括号 11"/>
          <p:cNvSpPr/>
          <p:nvPr/>
        </p:nvSpPr>
        <p:spPr>
          <a:xfrm flipH="1" rot="10800000">
            <a:off x="5320080" y="2892240"/>
            <a:ext cx="422280" cy="1912680"/>
          </a:xfrm>
          <a:custGeom>
            <a:avLst/>
            <a:gdLst>
              <a:gd name="textAreaLeft" fmla="*/ 0 w 422280"/>
              <a:gd name="textAreaRight" fmla="*/ 152280 w 422280"/>
              <a:gd name="textAreaTop" fmla="*/ 10800 h 1912680"/>
              <a:gd name="textAreaBottom" fmla="*/ 1901880 h 19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7"/>
                </a:cubicBezTo>
                <a:lnTo>
                  <a:pt x="10800" y="10403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7"/>
                </a:cubicBezTo>
                <a:lnTo>
                  <a:pt x="10800" y="21203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34920" y="244008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子歌二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写了大自然中的风霜雨雪、春夏秋冬、莺歌雁鸣、绿竹苍松等景物，表现了大自然的美好，展现了对子这种对仗工整、意境和谐的艺术形式的魅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/>
          <a:srcRect l="0" t="22772" r="0" b="24340"/>
          <a:stretch/>
        </p:blipFill>
        <p:spPr>
          <a:xfrm>
            <a:off x="831960" y="2425680"/>
            <a:ext cx="7535880" cy="299556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804960" y="3070080"/>
            <a:ext cx="7535880" cy="126756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山一程，水一程，身向榆关那畔行，夜深千帐灯。风一更，雪一更，聒碎乡心梦不成，故园无此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长相思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纳兰性德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278000" y="2095560"/>
            <a:ext cx="155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《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笠翁对韵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》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992160" y="2562120"/>
            <a:ext cx="741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是从前人们学习写作近体诗、词，用来熟悉对仗、用韵、组织词语的启蒙读物。作者李渔，号笠翁，因此叫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笠翁对韵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。全书按韵分编，包罗天文、地理、花木、鸟兽、人物、器物等的虚实应对。从单字对到双字对，三字对、五字对、七字对到十一字对，声韵协调，朗朗上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矩形 1"/>
          <p:cNvSpPr/>
          <p:nvPr/>
        </p:nvSpPr>
        <p:spPr>
          <a:xfrm>
            <a:off x="1155960" y="5197320"/>
            <a:ext cx="117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西湖对联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1060560" y="5607000"/>
            <a:ext cx="7510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山山水水处处明明秀秀，晴晴雨雨时时好好奇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5" name="矩形 11"/>
          <p:cNvSpPr/>
          <p:nvPr/>
        </p:nvSpPr>
        <p:spPr>
          <a:xfrm>
            <a:off x="1017720" y="24591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两首对子歌内容都与大自然息息相关，风霜雨雪、春夏秋冬、莺歌燕舞、绿竹苍松；情境极其优美，表现了大自然的美好，同时语言精练，读起来朗朗上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2"/>
          <p:cNvSpPr/>
          <p:nvPr/>
        </p:nvSpPr>
        <p:spPr>
          <a:xfrm>
            <a:off x="873000" y="1905120"/>
            <a:ext cx="75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朗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注意节奏和停顿，可以按“我说上联，你对下联”的方式朗读。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-103320" y="920880"/>
            <a:ext cx="43038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2"/>
          <p:cNvSpPr/>
          <p:nvPr/>
        </p:nvSpPr>
        <p:spPr>
          <a:xfrm>
            <a:off x="1050840" y="1463760"/>
            <a:ext cx="75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思考与交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两首对子歌，写出相对应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374840" y="2644920"/>
            <a:ext cx="683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    赤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苍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雷隐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雾蒙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风高秋月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雨霁晚霞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冬    暮鼓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晨钟    冯妇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公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衔泥双紫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蜜几黄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1278000" y="279864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见“核心问题”参考答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930240" y="2071800"/>
            <a:ext cx="75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两首对子歌，写出相对应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对对子的规律，感受中华民族文化的博大精深、丰富多彩，体会祖国语言文字的隽永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1266840" y="1154160"/>
            <a:ext cx="67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拓展与运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你尝试着将下面的字恰当地填入对联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1319040" y="2427120"/>
            <a:ext cx="607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丰年   新岁   门   户   夜  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联：东风迎（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联：瑞雪兆（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联：昨（    ）春风入（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联：今（    ）喜气盈（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3776400" y="3632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新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3776400" y="420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丰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3062160" y="474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5224320" y="473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3062160" y="528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224320" y="528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598320" y="1085760"/>
            <a:ext cx="670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积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背诵课文。（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读背背下面的对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930240" y="398772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点拨 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题给出的是两个名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一个对子是回文联，既可正读也可倒读，且正读倒读对联皆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二个对子是描写长白山天池这一风景名胜的对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927000" y="2792520"/>
            <a:ext cx="69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雾锁山头山锁雾，天连水尾水连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绿水本无忧，因风皱面；青山原不老，为雪白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7"/>
          <p:cNvSpPr/>
          <p:nvPr/>
        </p:nvSpPr>
        <p:spPr>
          <a:xfrm>
            <a:off x="1531800" y="2340000"/>
            <a:ext cx="69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同音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色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    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   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该    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ó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    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   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矩形 1"/>
          <p:cNvSpPr/>
          <p:nvPr/>
        </p:nvSpPr>
        <p:spPr>
          <a:xfrm>
            <a:off x="3020760" y="2948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4878360" y="2944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700884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3457440" y="350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4997160" y="35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7130880" y="349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3300120" y="403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5454360" y="401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6994440" y="403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835200" y="2017800"/>
            <a:ext cx="811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给加点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蒙古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蒙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启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"/>
          <p:cNvSpPr/>
          <p:nvPr/>
        </p:nvSpPr>
        <p:spPr>
          <a:xfrm>
            <a:off x="3251160" y="252900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ē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é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ě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315520" y="32115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ě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4805640" y="32115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ē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7158240" y="321624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éng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3438360" y="3600360"/>
            <a:ext cx="25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ē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3070080" y="2620800"/>
            <a:ext cx="3345120" cy="517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7"/>
          <p:cNvSpPr/>
          <p:nvPr/>
        </p:nvSpPr>
        <p:spPr>
          <a:xfrm>
            <a:off x="3070080" y="3714840"/>
            <a:ext cx="3345120" cy="519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2108520" y="429588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4762800" y="430992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ē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7076520" y="43084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ē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1233360" y="33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2"/>
          <p:cNvSpPr/>
          <p:nvPr/>
        </p:nvSpPr>
        <p:spPr>
          <a:xfrm>
            <a:off x="4019400" y="3349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6773760" y="335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4"/>
          <p:cNvSpPr/>
          <p:nvPr/>
        </p:nvSpPr>
        <p:spPr>
          <a:xfrm>
            <a:off x="1233360" y="444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3867840" y="4429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8"/>
          <p:cNvSpPr/>
          <p:nvPr/>
        </p:nvSpPr>
        <p:spPr>
          <a:xfrm>
            <a:off x="6302160" y="443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3"/>
          <p:cNvSpPr/>
          <p:nvPr/>
        </p:nvSpPr>
        <p:spPr>
          <a:xfrm>
            <a:off x="1523880" y="1855800"/>
            <a:ext cx="75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峨（　　　）　　飒（　　　）　　召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娥（　　　）　　讽（　　　）　　迢（　　  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朔（　　　）　　衔（　　　）　　递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塑（　　　）　　街（　　　）　　梯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左大括号 6"/>
          <p:cNvSpPr/>
          <p:nvPr/>
        </p:nvSpPr>
        <p:spPr>
          <a:xfrm>
            <a:off x="1181160" y="2606760"/>
            <a:ext cx="279360" cy="86508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5080"/>
              <a:gd name="textAreaBottom" fmla="*/ 8578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左大括号 15"/>
          <p:cNvSpPr/>
          <p:nvPr/>
        </p:nvSpPr>
        <p:spPr>
          <a:xfrm>
            <a:off x="3629160" y="2606760"/>
            <a:ext cx="279360" cy="863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左大括号 17"/>
          <p:cNvSpPr/>
          <p:nvPr/>
        </p:nvSpPr>
        <p:spPr>
          <a:xfrm>
            <a:off x="1244520" y="3654360"/>
            <a:ext cx="279360" cy="863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左大括号 18"/>
          <p:cNvSpPr/>
          <p:nvPr/>
        </p:nvSpPr>
        <p:spPr>
          <a:xfrm>
            <a:off x="6127920" y="2608200"/>
            <a:ext cx="279360" cy="863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左大括号 31"/>
          <p:cNvSpPr/>
          <p:nvPr/>
        </p:nvSpPr>
        <p:spPr>
          <a:xfrm>
            <a:off x="3629160" y="3665520"/>
            <a:ext cx="279360" cy="863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左大括号 32"/>
          <p:cNvSpPr/>
          <p:nvPr/>
        </p:nvSpPr>
        <p:spPr>
          <a:xfrm>
            <a:off x="6127920" y="3666960"/>
            <a:ext cx="279360" cy="863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863640"/>
              <a:gd name="textAreaBottom" fmla="*/ 8564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24"/>
          <p:cNvSpPr/>
          <p:nvPr/>
        </p:nvSpPr>
        <p:spPr>
          <a:xfrm>
            <a:off x="7039080" y="3497400"/>
            <a:ext cx="89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递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阶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7"/>
          <p:cNvSpPr/>
          <p:nvPr/>
        </p:nvSpPr>
        <p:spPr>
          <a:xfrm>
            <a:off x="2147760" y="2406600"/>
            <a:ext cx="9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巍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娇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28"/>
          <p:cNvSpPr/>
          <p:nvPr/>
        </p:nvSpPr>
        <p:spPr>
          <a:xfrm>
            <a:off x="4572000" y="2413080"/>
            <a:ext cx="7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飒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讥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29"/>
          <p:cNvSpPr/>
          <p:nvPr/>
        </p:nvSpPr>
        <p:spPr>
          <a:xfrm>
            <a:off x="6932520" y="2379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召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千里迢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0"/>
          <p:cNvSpPr/>
          <p:nvPr/>
        </p:nvSpPr>
        <p:spPr>
          <a:xfrm>
            <a:off x="2155680" y="3497400"/>
            <a:ext cx="9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朔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塑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3"/>
          <p:cNvSpPr/>
          <p:nvPr/>
        </p:nvSpPr>
        <p:spPr>
          <a:xfrm>
            <a:off x="4578480" y="3500280"/>
            <a:ext cx="8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衔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街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3"/>
          <p:cNvSpPr/>
          <p:nvPr/>
        </p:nvSpPr>
        <p:spPr>
          <a:xfrm>
            <a:off x="1486080" y="1803240"/>
            <a:ext cx="700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出对应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山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赤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暮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绿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雷隐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高秋月白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2850840" y="244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3079440" y="3030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3120840" y="357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苍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3186000" y="4095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苍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4483800" y="464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雨霁晚霞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5940360" y="244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1"/>
          <p:cNvSpPr/>
          <p:nvPr/>
        </p:nvSpPr>
        <p:spPr>
          <a:xfrm>
            <a:off x="6244920" y="30146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海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6248160" y="3551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晨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6563880" y="4110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雾蒙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797040" y="1916280"/>
            <a:ext cx="75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下列对子朗读节奏和重音全对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衔泥双紫燕，课蜜几黄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春日园中莺恰恰，秋天塞外雁雍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秦岭云横，迢递八千远路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巫山雨洗，嵯峨十二危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1511280" y="258588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接连接符 8"/>
          <p:cNvSpPr/>
          <p:nvPr/>
        </p:nvSpPr>
        <p:spPr>
          <a:xfrm flipH="1">
            <a:off x="2701800" y="2585880"/>
            <a:ext cx="24624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1"/>
          <p:cNvSpPr/>
          <p:nvPr/>
        </p:nvSpPr>
        <p:spPr>
          <a:xfrm flipH="1">
            <a:off x="4874760" y="2585880"/>
            <a:ext cx="24444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12"/>
          <p:cNvSpPr/>
          <p:nvPr/>
        </p:nvSpPr>
        <p:spPr>
          <a:xfrm flipH="1">
            <a:off x="3332160" y="3144960"/>
            <a:ext cx="24624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接连接符 13"/>
          <p:cNvSpPr/>
          <p:nvPr/>
        </p:nvSpPr>
        <p:spPr>
          <a:xfrm flipH="1">
            <a:off x="6078240" y="3144960"/>
            <a:ext cx="24444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14"/>
          <p:cNvSpPr/>
          <p:nvPr/>
        </p:nvSpPr>
        <p:spPr>
          <a:xfrm flipH="1">
            <a:off x="2717640" y="3714840"/>
            <a:ext cx="24624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接连接符 15"/>
          <p:cNvSpPr/>
          <p:nvPr/>
        </p:nvSpPr>
        <p:spPr>
          <a:xfrm flipH="1">
            <a:off x="5119560" y="3727440"/>
            <a:ext cx="246240" cy="41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16"/>
          <p:cNvSpPr/>
          <p:nvPr/>
        </p:nvSpPr>
        <p:spPr>
          <a:xfrm flipH="1">
            <a:off x="2627280" y="4237200"/>
            <a:ext cx="24624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接连接符 17"/>
          <p:cNvSpPr/>
          <p:nvPr/>
        </p:nvSpPr>
        <p:spPr>
          <a:xfrm flipH="1">
            <a:off x="5119560" y="4273560"/>
            <a:ext cx="24624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8"/>
          <p:cNvSpPr/>
          <p:nvPr/>
        </p:nvSpPr>
        <p:spPr>
          <a:xfrm>
            <a:off x="3670560" y="258588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9"/>
          <p:cNvSpPr/>
          <p:nvPr/>
        </p:nvSpPr>
        <p:spPr>
          <a:xfrm>
            <a:off x="3100320" y="3139920"/>
            <a:ext cx="19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0"/>
          <p:cNvSpPr/>
          <p:nvPr/>
        </p:nvSpPr>
        <p:spPr>
          <a:xfrm>
            <a:off x="5875200" y="3143160"/>
            <a:ext cx="19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1"/>
          <p:cNvSpPr/>
          <p:nvPr/>
        </p:nvSpPr>
        <p:spPr>
          <a:xfrm>
            <a:off x="2467080" y="367344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2"/>
          <p:cNvSpPr/>
          <p:nvPr/>
        </p:nvSpPr>
        <p:spPr>
          <a:xfrm>
            <a:off x="3971880" y="366408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3"/>
          <p:cNvSpPr/>
          <p:nvPr/>
        </p:nvSpPr>
        <p:spPr>
          <a:xfrm>
            <a:off x="3970440" y="423216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4"/>
          <p:cNvSpPr/>
          <p:nvPr/>
        </p:nvSpPr>
        <p:spPr>
          <a:xfrm>
            <a:off x="2430720" y="421956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7025400" y="20415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3440" cy="5508720"/>
            <a:chOff x="600120" y="1014480"/>
            <a:chExt cx="808344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915000"/>
              <a:ext cx="320652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通读课文，哪些句子表现了大自然的美好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7560" y="3915000"/>
              <a:ext cx="34560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课文描写了大自然中的哪些景物？列举几个。它们表现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7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矩形 1"/>
              <p:cNvSpPr/>
              <p:nvPr/>
            </p:nvSpPr>
            <p:spPr>
              <a:xfrm>
                <a:off x="2552760" y="2008800"/>
                <a:ext cx="398448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6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学习了本文，你发现对对子有什么特点？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2"/>
              <p:cNvSpPr/>
              <p:nvPr/>
            </p:nvSpPr>
            <p:spPr>
              <a:xfrm>
                <a:off x="4575600" y="13082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对称和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六边形 15"/>
          <p:cNvSpPr/>
          <p:nvPr/>
        </p:nvSpPr>
        <p:spPr>
          <a:xfrm>
            <a:off x="3127320" y="1682640"/>
            <a:ext cx="612720" cy="3207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d99694"/>
          </a:solidFill>
          <a:ln w="9360">
            <a:solidFill>
              <a:srgbClr val="95373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六边形 23"/>
          <p:cNvSpPr/>
          <p:nvPr/>
        </p:nvSpPr>
        <p:spPr>
          <a:xfrm>
            <a:off x="6599160" y="1692360"/>
            <a:ext cx="612720" cy="3189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d99694"/>
          </a:solidFill>
          <a:ln w="9360">
            <a:solidFill>
              <a:srgbClr val="95373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12"/>
          <p:cNvSpPr/>
          <p:nvPr/>
        </p:nvSpPr>
        <p:spPr>
          <a:xfrm>
            <a:off x="2179800" y="1665360"/>
            <a:ext cx="326880" cy="3556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8"/>
          <p:cNvSpPr/>
          <p:nvPr/>
        </p:nvSpPr>
        <p:spPr>
          <a:xfrm>
            <a:off x="4662360" y="1673280"/>
            <a:ext cx="328680" cy="3556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465200" y="1509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1528920"/>
                <a:tab algn="l" pos="17064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    左右，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两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 西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3"/>
          <p:cNvGrpSpPr/>
          <p:nvPr/>
        </p:nvGrpSpPr>
        <p:grpSpPr>
          <a:xfrm>
            <a:off x="804960" y="2155680"/>
            <a:ext cx="7683480" cy="559080"/>
            <a:chOff x="804960" y="2155680"/>
            <a:chExt cx="7683480" cy="559080"/>
          </a:xfrm>
        </p:grpSpPr>
        <p:sp>
          <p:nvSpPr>
            <p:cNvPr id="86" name="直接连接符 4"/>
            <p:cNvSpPr/>
            <p:nvPr/>
          </p:nvSpPr>
          <p:spPr>
            <a:xfrm>
              <a:off x="804960" y="27147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任意多边形 5"/>
            <p:cNvSpPr/>
            <p:nvPr/>
          </p:nvSpPr>
          <p:spPr>
            <a:xfrm>
              <a:off x="804960" y="215568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此处运用什么修辞方法写出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1"/>
          <p:cNvSpPr/>
          <p:nvPr/>
        </p:nvSpPr>
        <p:spPr>
          <a:xfrm>
            <a:off x="735120" y="470232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还有方位对：“西东”对“左右”。一左一右，一西一东，位置的变化使句子读起来充满动感与情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351080" y="418464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有数字对：“两”对“二”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1577520" y="163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牛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073040" y="16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参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2466000" y="161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2"/>
          <p:cNvSpPr/>
          <p:nvPr/>
        </p:nvSpPr>
        <p:spPr>
          <a:xfrm>
            <a:off x="4970160" y="163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4"/>
          <p:cNvSpPr/>
          <p:nvPr/>
        </p:nvSpPr>
        <p:spPr>
          <a:xfrm>
            <a:off x="2795400" y="161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5"/>
          <p:cNvSpPr/>
          <p:nvPr/>
        </p:nvSpPr>
        <p:spPr>
          <a:xfrm>
            <a:off x="6238080" y="161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7"/>
          <p:cNvSpPr/>
          <p:nvPr/>
        </p:nvSpPr>
        <p:spPr>
          <a:xfrm>
            <a:off x="800280" y="2838600"/>
            <a:ext cx="71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副对子既有星星对：“参商”对“牛女”、“斗”对“河”；“曜”对“星”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36c0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36c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31"/>
          <p:cNvSpPr/>
          <p:nvPr/>
        </p:nvSpPr>
        <p:spPr>
          <a:xfrm>
            <a:off x="4967280" y="1152360"/>
            <a:ext cx="339840" cy="339840"/>
          </a:xfrm>
          <a:prstGeom prst="ellipse">
            <a:avLst/>
          </a:prstGeom>
          <a:solidFill>
            <a:srgbClr val="95b3d7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32"/>
          <p:cNvSpPr/>
          <p:nvPr/>
        </p:nvSpPr>
        <p:spPr>
          <a:xfrm>
            <a:off x="4954680" y="1716120"/>
            <a:ext cx="338040" cy="339840"/>
          </a:xfrm>
          <a:prstGeom prst="ellipse">
            <a:avLst/>
          </a:prstGeom>
          <a:solidFill>
            <a:srgbClr val="95b3d7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27"/>
          <p:cNvSpPr/>
          <p:nvPr/>
        </p:nvSpPr>
        <p:spPr>
          <a:xfrm>
            <a:off x="4100400" y="1174680"/>
            <a:ext cx="525600" cy="3398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9360">
            <a:solidFill>
              <a:srgbClr val="b3a2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 30"/>
          <p:cNvSpPr/>
          <p:nvPr/>
        </p:nvSpPr>
        <p:spPr>
          <a:xfrm>
            <a:off x="4127400" y="1708200"/>
            <a:ext cx="527040" cy="3398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9360">
            <a:solidFill>
              <a:srgbClr val="b3a2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椭圆 21"/>
          <p:cNvSpPr/>
          <p:nvPr/>
        </p:nvSpPr>
        <p:spPr>
          <a:xfrm>
            <a:off x="2814480" y="1174680"/>
            <a:ext cx="338400" cy="33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椭圆 24"/>
          <p:cNvSpPr/>
          <p:nvPr/>
        </p:nvSpPr>
        <p:spPr>
          <a:xfrm>
            <a:off x="2800440" y="1738440"/>
            <a:ext cx="338040" cy="33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806480" y="100332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横，    八千  路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洗，    十二  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2443320" y="4037040"/>
            <a:ext cx="4257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地理对：“峰”对“路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698400" y="4519440"/>
            <a:ext cx="794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此外，上联暗含了韩湘子，下联暗含了巫山神女，是神话对。“秦岭云横”又化用了韩愈的名句“云横秦岭家何在？雪拥蓝关马不前”。这副对子通过简短的二十个字，描写了秦岭的高大绵延和巫山的高耸巍峨，对仗工整，意境对称和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187280" y="2106720"/>
            <a:ext cx="5937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副对子有地名对：“巫山”对“秦岭”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471760" y="2490840"/>
            <a:ext cx="4859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天文对：“雨”对“云”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2455920" y="2874960"/>
            <a:ext cx="4259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动词对：“洗”对“横”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2457360" y="3251160"/>
            <a:ext cx="5896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词对：“嵯峨”对“迢递”，“危”对“远”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2459160" y="3672000"/>
            <a:ext cx="4422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数字对：“十二”对“八千”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1863360" y="168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巫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879200" y="1120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秦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9"/>
          <p:cNvSpPr/>
          <p:nvPr/>
        </p:nvSpPr>
        <p:spPr>
          <a:xfrm>
            <a:off x="2466720" y="1135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0"/>
          <p:cNvSpPr/>
          <p:nvPr/>
        </p:nvSpPr>
        <p:spPr>
          <a:xfrm>
            <a:off x="247464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22"/>
          <p:cNvSpPr/>
          <p:nvPr/>
        </p:nvSpPr>
        <p:spPr>
          <a:xfrm>
            <a:off x="3425400" y="113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迢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3"/>
          <p:cNvSpPr/>
          <p:nvPr/>
        </p:nvSpPr>
        <p:spPr>
          <a:xfrm>
            <a:off x="3425400" y="1692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嵯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5"/>
          <p:cNvSpPr/>
          <p:nvPr/>
        </p:nvSpPr>
        <p:spPr>
          <a:xfrm>
            <a:off x="4636800" y="113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6"/>
          <p:cNvSpPr/>
          <p:nvPr/>
        </p:nvSpPr>
        <p:spPr>
          <a:xfrm>
            <a:off x="4651200" y="16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8dd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8dd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圆角矩形 2"/>
          <p:cNvSpPr/>
          <p:nvPr/>
        </p:nvSpPr>
        <p:spPr>
          <a:xfrm>
            <a:off x="3247920" y="1514520"/>
            <a:ext cx="273240" cy="341280"/>
          </a:xfrm>
          <a:custGeom>
            <a:avLst/>
            <a:gdLst>
              <a:gd name="textAreaLeft" fmla="*/ 13320 w 273240"/>
              <a:gd name="textAreaRight" fmla="*/ 259920 w 27324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6972">
                <a:moveTo>
                  <a:pt x="3600" y="0"/>
                </a:moveTo>
                <a:arcTo wR="3600" hR="3600" stAng="16200000" swAng="-5400000"/>
                <a:lnTo>
                  <a:pt x="0" y="23372"/>
                </a:lnTo>
                <a:arcTo wR="3600" hR="3600" stAng="10800000" swAng="-5400000"/>
                <a:lnTo>
                  <a:pt x="18000" y="26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圆角矩形 8"/>
          <p:cNvSpPr/>
          <p:nvPr/>
        </p:nvSpPr>
        <p:spPr>
          <a:xfrm>
            <a:off x="5106960" y="1496880"/>
            <a:ext cx="273240" cy="341280"/>
          </a:xfrm>
          <a:custGeom>
            <a:avLst/>
            <a:gdLst>
              <a:gd name="textAreaLeft" fmla="*/ 13320 w 273240"/>
              <a:gd name="textAreaRight" fmla="*/ 259920 w 27324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6972">
                <a:moveTo>
                  <a:pt x="3600" y="0"/>
                </a:moveTo>
                <a:arcTo wR="3600" hR="3600" stAng="16200000" swAng="-5400000"/>
                <a:lnTo>
                  <a:pt x="0" y="23372"/>
                </a:lnTo>
                <a:arcTo wR="3600" hR="3600" stAng="10800000" swAng="-5400000"/>
                <a:lnTo>
                  <a:pt x="18000" y="26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圆角矩形 9"/>
          <p:cNvSpPr/>
          <p:nvPr/>
        </p:nvSpPr>
        <p:spPr>
          <a:xfrm>
            <a:off x="1424160" y="2031840"/>
            <a:ext cx="272880" cy="339840"/>
          </a:xfrm>
          <a:custGeom>
            <a:avLst/>
            <a:gdLst>
              <a:gd name="textAreaLeft" fmla="*/ 13320 w 272880"/>
              <a:gd name="textAreaRight" fmla="*/ 259560 w 272880"/>
              <a:gd name="textAreaTop" fmla="*/ 13320 h 339840"/>
              <a:gd name="textAreaBottom" fmla="*/ 326520 h 339840"/>
            </a:gdLst>
            <a:ahLst/>
            <a:rect l="textAreaLeft" t="textAreaTop" r="textAreaRight" b="textAreaBottom"/>
            <a:pathLst>
              <a:path w="21600" h="26893">
                <a:moveTo>
                  <a:pt x="3600" y="0"/>
                </a:moveTo>
                <a:arcTo wR="3600" hR="3600" stAng="16200000" swAng="-5400000"/>
                <a:lnTo>
                  <a:pt x="0" y="23293"/>
                </a:lnTo>
                <a:arcTo wR="3600" hR="3600" stAng="10800000" swAng="-5400000"/>
                <a:lnTo>
                  <a:pt x="18000" y="26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圆角矩形 10"/>
          <p:cNvSpPr/>
          <p:nvPr/>
        </p:nvSpPr>
        <p:spPr>
          <a:xfrm>
            <a:off x="3924360" y="2044800"/>
            <a:ext cx="272880" cy="341280"/>
          </a:xfrm>
          <a:custGeom>
            <a:avLst/>
            <a:gdLst>
              <a:gd name="textAreaLeft" fmla="*/ 13320 w 272880"/>
              <a:gd name="textAreaRight" fmla="*/ 259560 w 27288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7007">
                <a:moveTo>
                  <a:pt x="3600" y="0"/>
                </a:moveTo>
                <a:arcTo wR="3600" hR="3600" stAng="16200000" swAng="-5400000"/>
                <a:lnTo>
                  <a:pt x="0" y="23407"/>
                </a:lnTo>
                <a:arcTo wR="3600" hR="3600" stAng="10800000" swAng="-5400000"/>
                <a:lnTo>
                  <a:pt x="18000" y="27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圆角矩形 11"/>
          <p:cNvSpPr/>
          <p:nvPr/>
        </p:nvSpPr>
        <p:spPr>
          <a:xfrm>
            <a:off x="5754600" y="2044800"/>
            <a:ext cx="273240" cy="341280"/>
          </a:xfrm>
          <a:custGeom>
            <a:avLst/>
            <a:gdLst>
              <a:gd name="textAreaLeft" fmla="*/ 13320 w 273240"/>
              <a:gd name="textAreaRight" fmla="*/ 259920 w 27324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6972">
                <a:moveTo>
                  <a:pt x="3600" y="0"/>
                </a:moveTo>
                <a:arcTo wR="3600" hR="3600" stAng="16200000" swAng="-5400000"/>
                <a:lnTo>
                  <a:pt x="0" y="23372"/>
                </a:lnTo>
                <a:arcTo wR="3600" hR="3600" stAng="10800000" swAng="-5400000"/>
                <a:lnTo>
                  <a:pt x="18000" y="26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12"/>
          <p:cNvSpPr/>
          <p:nvPr/>
        </p:nvSpPr>
        <p:spPr>
          <a:xfrm>
            <a:off x="3247920" y="2603520"/>
            <a:ext cx="273240" cy="341280"/>
          </a:xfrm>
          <a:custGeom>
            <a:avLst/>
            <a:gdLst>
              <a:gd name="textAreaLeft" fmla="*/ 13320 w 273240"/>
              <a:gd name="textAreaRight" fmla="*/ 259920 w 27324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6972">
                <a:moveTo>
                  <a:pt x="3600" y="0"/>
                </a:moveTo>
                <a:arcTo wR="3600" hR="3600" stAng="16200000" swAng="-5400000"/>
                <a:lnTo>
                  <a:pt x="0" y="23372"/>
                </a:lnTo>
                <a:arcTo wR="3600" hR="3600" stAng="10800000" swAng="-5400000"/>
                <a:lnTo>
                  <a:pt x="18000" y="26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13"/>
          <p:cNvSpPr/>
          <p:nvPr/>
        </p:nvSpPr>
        <p:spPr>
          <a:xfrm>
            <a:off x="8123400" y="2603520"/>
            <a:ext cx="272880" cy="341280"/>
          </a:xfrm>
          <a:custGeom>
            <a:avLst/>
            <a:gdLst>
              <a:gd name="textAreaLeft" fmla="*/ 13320 w 272880"/>
              <a:gd name="textAreaRight" fmla="*/ 259560 w 272880"/>
              <a:gd name="textAreaTop" fmla="*/ 13320 h 341280"/>
              <a:gd name="textAreaBottom" fmla="*/ 327960 h 341280"/>
            </a:gdLst>
            <a:ahLst/>
            <a:rect l="textAreaLeft" t="textAreaTop" r="textAreaRight" b="textAreaBottom"/>
            <a:pathLst>
              <a:path w="21600" h="27007">
                <a:moveTo>
                  <a:pt x="3600" y="0"/>
                </a:moveTo>
                <a:arcTo wR="3600" hR="3600" stAng="16200000" swAng="-5400000"/>
                <a:lnTo>
                  <a:pt x="0" y="23407"/>
                </a:lnTo>
                <a:arcTo wR="3600" hR="3600" stAng="10800000" swAng="-5400000"/>
                <a:lnTo>
                  <a:pt x="18000" y="27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14"/>
          <p:cNvSpPr/>
          <p:nvPr/>
        </p:nvSpPr>
        <p:spPr>
          <a:xfrm>
            <a:off x="1109520" y="3711600"/>
            <a:ext cx="273240" cy="339840"/>
          </a:xfrm>
          <a:custGeom>
            <a:avLst/>
            <a:gdLst>
              <a:gd name="textAreaLeft" fmla="*/ 13320 w 273240"/>
              <a:gd name="textAreaRight" fmla="*/ 259920 w 273240"/>
              <a:gd name="textAreaTop" fmla="*/ 13320 h 339840"/>
              <a:gd name="textAreaBottom" fmla="*/ 326520 h 339840"/>
            </a:gdLst>
            <a:ahLst/>
            <a:rect l="textAreaLeft" t="textAreaTop" r="textAreaRight" b="textAreaBottom"/>
            <a:pathLst>
              <a:path w="21600" h="26858">
                <a:moveTo>
                  <a:pt x="3600" y="0"/>
                </a:moveTo>
                <a:arcTo wR="3600" hR="3600" stAng="16200000" swAng="-5400000"/>
                <a:lnTo>
                  <a:pt x="0" y="23258"/>
                </a:lnTo>
                <a:arcTo wR="3600" hR="3600" stAng="10800000" swAng="-5400000"/>
                <a:lnTo>
                  <a:pt x="18000" y="26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673200" y="1343160"/>
            <a:ext cx="78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对夏，秋对冬，暮鼓对晨钟。观山对玩水，绿竹对苍松。冯妇虎，叶公龙，舞蝶结鸣蛩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óng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衔泥双紫燕，课蜜几黄蜂。春日园中莺恰恰，秋天塞外雁雍雍。 秦岭云横，迢递八千远路；巫山雨洗，嵯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u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峨十二危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700200" y="4205160"/>
            <a:ext cx="78246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韵脚是：冬、钟、松、龙、蛩、蜂、雍、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押韵能增强句子的韵味，读起来朗朗上口，也能使句子工整，增强句子的美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21"/>
          <p:cNvSpPr/>
          <p:nvPr/>
        </p:nvSpPr>
        <p:spPr>
          <a:xfrm>
            <a:off x="790560" y="895320"/>
            <a:ext cx="756936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押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23"/>
          <p:cNvSpPr/>
          <p:nvPr/>
        </p:nvSpPr>
        <p:spPr>
          <a:xfrm>
            <a:off x="861840" y="1778040"/>
            <a:ext cx="73472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押韵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押韵，是指在韵文的创作中，在某些句子的最后一个字，都使用韵母相同或相近的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有什么作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押韵能增强句子的韵味，读起来铿锵有力，朗朗上口，也能使句子工整，增强句子的美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如何判断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看句子的最后一个字的韵母是否相同或相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“课后练习单”第二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689040" y="211788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950760" y="339732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发现对对子一是字数相同、词性相对；二是一句之中平仄相间，两句之间平仄相对；三是在意思和意境上对称和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934920" y="27352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习了本文，你发现对对子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内容占位符 2"/>
          <p:cNvSpPr/>
          <p:nvPr/>
        </p:nvSpPr>
        <p:spPr>
          <a:xfrm>
            <a:off x="851040" y="224964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读课文，哪些句子表现了大自然的美好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182600" y="288288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大自然美好的句子是：山花对海树，赤日对苍穹。雷隐隐，雾蒙蒙，日下对天中。风高秋月白，雨霁晚霞红。绿竹对苍松。舞蝶结鸣蛩。衔泥双紫燕，课蜜几黄蜂。春日园中莺恰恰，秋天塞外雁雍雍。秦岭云横，迢递八千远路；巫山雨洗，嵯峨十二危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635040" y="1528920"/>
            <a:ext cx="2203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6:25:20Z</dcterms:modified>
  <cp:revision>4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